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120-A628-4F4B-86E2-9FFD807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7E6-3680-4B7E-8653-A598D56F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B1E-CD28-47D6-8F3E-172EA7A5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655-D347-4243-9A9A-EF40B6A7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8AE-AB0E-4BBF-A60F-C06D18AE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D55-5D9E-459B-832B-74DADA4C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5ED-2C64-4C30-AA42-6BE59B26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CAF4-81C4-47D4-9AED-85D2984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4CEA-1008-437F-ACB8-F3377962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D41-6E3C-406E-A24A-9C45C1DA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A1D0-294A-4A73-B09A-A66C0B53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9C0-5F91-4A53-8FFE-DE296FE0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F464-B9DC-4868-AAA7-D713338C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C7FE-3BE2-47FF-A7FB-A1C0165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CEC5-F9A3-48D5-B2A4-9C5AA8FB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CE31-9ECC-4392-B4C5-37CA02FF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3B9-B0FD-49D1-9828-CC000718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657C-2F3E-466F-9D40-6FD69D47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9D9-8395-42F9-94D6-DED904A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251-080A-44D8-B140-D51ADED1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993-0F89-4A4B-9D2F-B671D1B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09C-3928-44AA-9D48-745F7861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ECC-BA35-4F9A-AE6B-F0BC7CC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8C7-4896-4A4F-AA87-5E6C9D7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B077-C722-4437-B28E-AD9002DCAB2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EB9-0062-4114-913D-DF2E1FC1D49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Numeracy At St Peter’s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MVC-012F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Mathematics/Numerac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Mathematics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abstract and scientific underpinning of concepts and skills that involves mathematical thinking and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is Numerac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e effective use of mathematics to meet the general demands of life at home, at work and for participation in community and civic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SINE at St Peter’s Scho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uccess in Numeracy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atholic Education Initiative Prep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volves individual pre-assess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ocused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ngaged learning through involvement in problem solving and hands on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n-going monitoring and assess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S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ividual learning plans for children at ris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vers learning outcomes in Number, Space, Measurement and Chance and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volves parents and teachers in a partnership to support children’s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ahoma"/>
              </a:rPr>
              <a:t>Growth Points In Coun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ral or rote 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unting colle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erceptual coun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ount on / count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pplying basic strateg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22:26:00Z</dcterms:created>
  <dc:creator>juliep</dc:creator>
  <dc:description/>
  <dc:language>en-US</dc:language>
  <cp:lastModifiedBy>juliep</cp:lastModifiedBy>
  <dcterms:modified xsi:type="dcterms:W3CDTF">2006-02-08T23:04:13Z</dcterms:modified>
  <cp:revision>2</cp:revision>
  <dc:subject/>
  <dc:title>Numeracy At St Peter’s School</dc:title>
</cp:coreProperties>
</file>